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79DE-9926-4395-A0A6-1FFD65DE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4671-89A8-4E36-AC73-0C5A159A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7EF3-9CAF-4171-910D-8524B245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61E-333F-4918-9EBC-AAB42BA3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10A9-F4F2-4785-944E-9167577D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B522D8B-7F90-4437-AD1D-C78BA7C00DE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5DF64FB-F4C0-4EEC-BCC4-7D3035DA45DE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0ED794D-ADB1-4BCF-844F-343F0FB2FE2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803920"/>
            <a:ext cx="87660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5: Spreadsheet and Worksheet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3320" y="15080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 that perform calculations on values in a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formulas with equal sign (=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of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s inside parenthes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and division (in 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and subtraction (in 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Order of Operations!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6BC6ECC-AA12-4361-A950-894D664EF62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ula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3280" y="1444680"/>
            <a:ext cx="818352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values fo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use Cell References fo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aces in formul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s show up in formula bar; results show up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DC9CB80-D5EA-4074-B86B-54B515F077E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73200" y="3876840"/>
            <a:ext cx="68310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efined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func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(adds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(finds the average of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(counts the numbers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 (finds the smallest number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(finds the largest number in a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um: select a function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omatically suggests a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3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51C400B-B116-4C57-817A-F4F31457C57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7:13:51Z</dcterms:modified>
  <cp:revision>20</cp:revision>
  <dc:subject/>
  <dc:title>Slide 1</dc:title>
</cp:coreProperties>
</file>